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B94-EB00-497B-88C2-5566280B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FD9-E947-4299-BCC1-B0938B82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CC55-5723-46D6-B98A-26E92F6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091D0-A29B-4410-8B1E-6825AF1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25C99-F7C9-4EB0-A01E-8E27423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8ACDD-076E-44B8-9CEF-BE6C7E1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DCAEF-01B2-4E35-83A6-62A16A84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AEA19-9693-44B5-93AE-911BED3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46F60-55BE-457B-BF2C-3534A2D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2A25E-3B51-4982-AD4C-1455C56B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CE68-4AAB-40CC-9222-4DEE82C4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9344-AB41-465B-B402-36418325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DBB-01A5-4EC6-B316-044C9B9F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9D54-798F-4B4C-BDFA-F2D64B92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49DB1-A5CD-4A1C-819D-074E5774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30624-F2FF-42F9-9F9E-8295DC6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F728B-8902-4966-AC91-A88D1DEC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9410-E7E7-4187-B096-E1963059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713A-70E0-496C-9C28-FC6553A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55E0E-7402-4E04-A298-AA54E38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1DC06-6A7F-4D25-8032-F1F0FE1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14BD0-9AA3-459B-82A2-4B4CA38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69DA-BDF9-48FD-A7E7-46938E40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CB5-43ED-4FB7-B422-99EBC6A2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20C93-3540-45C6-B1AA-3306808F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0362-B19A-4FAF-8B79-B3453664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F5D7F-4DB6-4FDF-BD18-B0C79A7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084E3-1527-4375-AF18-36C18103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14D1-9133-40A1-A953-73B1C8B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D0B78-4FCC-48C0-B026-D86FAA4C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645C8-F6DF-4F5F-A5D7-54DAC8F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4CA3D-A61A-4C43-AF7A-A07007B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820A9-E28C-4F11-B967-DB521C6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861A-A015-44A6-9248-5FCD61D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9B84-BDD6-466B-A062-E56CB306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81CC-385D-4E4D-A2A5-9FAB3C6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62293-E6B5-469E-A513-89E60E46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3D40E-231E-4586-9378-D49660EE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F9FF3-CD23-4340-B50B-740C8D1C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E0A25-A0BA-4561-B434-9AB12DA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EDF4D-28B5-45D8-8FEB-772272FB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7DBAE-C20A-4046-92B5-228E2F4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B6A8-0CA5-47A7-BDB4-70817C2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D7D10-36DF-4820-9D76-97D1615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31EEB-966C-4254-AEA0-25C1A9E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15C-CEE0-4644-9F22-A1D1DA61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4FE03-C94C-4C92-8C30-365C469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33010-F798-4A25-9B55-8D6D279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95721-2CCF-4DC4-BDCA-0982A29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4FFF-6AF9-460A-A418-A3A1CF97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453A8-2575-49DE-9F05-266EC199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7307D-0C73-478F-997D-9C765F4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4820A-4EF4-48A6-81B0-2E5A1AD0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B5EAD-7A2C-4BB3-B4B4-95726FD0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F24E4-5475-4454-9004-33B649E8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3081C-CBAF-4261-A51D-93DCA2C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6A08-9493-41A6-B390-38E9750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12077-6F32-4039-8E11-F829CE37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62A2E-5FB9-44CC-88E5-C5F9E70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DDF39-23E1-477E-A644-7F0B2D7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322E5-C942-41D2-83C3-7ABE113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30D0A-81ED-44AA-B9C6-F505CFE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B5AC2-BFE3-4029-B7D0-1B846412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F4786-5CF2-400F-9A77-27A13A06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63D0C-2806-4403-9136-7B577845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A0515-C57E-4684-B40C-2835108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21ECA-1DDB-4ED6-B23E-D126CDAA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806-BC56-4124-BBE7-B96F9D4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9FC9B-CBBF-4234-B5AE-366B0BB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40DC8-4F53-4EE4-B032-5647252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027C9-D4C5-4BBF-8738-A10C575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2B764-E8CF-4117-A5C3-E44FE1B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C5E32-2CFC-42DF-B0BA-A2A68E9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194FE-9194-42B5-BCC0-82AC7EA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2CE41-AC37-4642-8B0A-E4F5C8AD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3CC2B-54FD-4005-8AD8-6BFDE6EB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A0156-3F3F-4BE3-9729-2BC2FC09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E97E7-91EA-4948-B4A2-BB338108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4C7-C52B-43B6-BACB-6C3911A3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E15B1-2014-49DF-89EA-57A34DFF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297D7-CA74-48CB-B625-96BAE0F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B15F9-B50F-4D1D-BC2E-E2DA03BC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55652-DD14-4D2E-96BA-FDA6CC52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2CA27-6B82-4D54-9D41-0EBC8321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DBEFC-4AB4-4CDE-94C6-6A80600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F3ACF-95A5-4915-AB8F-D759107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0287B-E5BB-485C-AD61-F057618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68F2B-F50D-4B97-B10B-33F7E7F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C6585-889B-4D93-B887-BF60C3E3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C00-BE0D-4103-A57F-1D4FC5D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5DF36-3050-4F54-8C61-3C394AB6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8328E-24EE-4CDC-9926-5A29C12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6EB18-AE2A-4537-AA8C-5C8050B6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5BE46-CE68-404E-8313-01C3BB49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97598-38AA-4B9F-8378-3EB73D3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4D81D-B359-417F-8E7B-3C8891C1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009D5-6F7E-4E47-8EE1-D93DE77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02A73-45A6-49AF-87CA-3925B96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B33DA-61AC-4C9D-A638-4E53D2D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6F2B1-C2F9-49AC-896A-9AF7E86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3C2-0CEF-49C1-B104-3C3D5F3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10556-55A5-4236-BB3C-CB97454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65FDF-3ED6-4F27-8DDD-217FBB90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433B7-BAD9-46CF-BFE2-26F7D060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589E3-9CFF-44E9-A20C-6C78D252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B9ABD-C714-4383-8B5F-A1368DF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D224B-08D1-4850-B587-1CE1937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F308C-2A4F-49D2-892E-66740622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3F78D-49B0-433F-9B1E-B3B883C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5071B-4865-435A-8C3C-6961040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D1C3D-4A42-4868-884F-EEEB0E9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2A1-4C00-4B72-8533-AD8BCA1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DB2-CEBE-4618-A13A-DE15C23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B40BB-E297-4986-8591-0BC97FB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6CA6D-2C08-4499-8044-20C5168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48015-51CB-4732-AD8A-1C295F1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71F06-DA99-4198-807A-13073FD6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93153-7D19-475B-9145-7AC42901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42E26-DCEA-4EC2-8E8C-C78B13DB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0EBE6-C992-48DE-BC44-A03C8487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31168-F56D-4FBE-A8C7-0BC43AB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B00C3-07D1-4902-89C1-FFA421E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C3E14-B284-44AA-9C7F-2B17E89C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D68-FCB1-4089-97FD-49DCDA2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89E18-D569-4785-839B-E0A0B678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CA008-640D-4987-86EA-869614F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A9A2F-C8FB-457B-8B03-7394E03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5B0AF-F622-42D1-BFC4-FF044E6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0C8A7-1A00-487C-8AA9-29A03A6D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892F2-7101-4726-83A6-93707A8B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3D2B5-2FE9-492D-ABC2-46BCF900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AD9AA-A09C-45B3-B713-3AB02AD8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E12B9-8A4D-46DA-907A-2C34A82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35CBC0-25E1-46EB-99FE-CF9F155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CE81-1930-4D12-B106-3093040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A459F-F26A-4CB6-BFC0-C2F35442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0DF8A-8481-4A00-BAB1-9A18EF2E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688DC-0169-47F2-B477-11713409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7FDCE-E1BB-4091-862C-A1B0EE2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A9790-E5C7-4F50-98EB-60D425E7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C065F-8048-4EF0-9818-C8C692D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19B2D-A8D3-4286-AC9F-F5FADAAF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A5FF2-C5AB-4B52-B662-2559A1C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C9573-10FD-4DFA-AD01-13F16610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AD153-D8A6-4181-804F-BF83E74A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A850-9673-4B9C-8D12-43469980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82740-0A60-460B-8337-1E09715A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8EBDE-CC9B-4034-8F1F-BC7F064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27E1F-F6CC-4290-99B3-0C32C813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4B243-69AC-4658-96CE-D17B332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DA226-6174-4DE2-92F1-02E752E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2EBEE-A3F6-48F7-A6E9-0567AD2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98CF6-6B51-42D0-BC3C-48755B5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8EE72-6234-487D-9E67-80850AD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201DC-1A9C-4BFE-A766-364FC51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E54AC-B360-4770-948A-6F2CE44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735F-C049-4FE2-B78A-05F563A0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47814-5830-489C-B3F7-7F0632E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2A8D3-DE70-4A45-A1BD-77AEB607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8F07C-8B64-4CAF-B29B-BFA103A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375F8-86A3-4B53-9CBA-D0D30AA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32B65-81C4-4AB3-8053-41813DCB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C2A97-4554-4F84-8337-5BA40BA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09FD1-2742-46C2-8C69-7170AD07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7656C-8387-4974-BB08-BB3B9E7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BCD08-B1B5-4AF1-9D6B-8FFE780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07A1B-02CA-45DA-AE65-771B1CB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2D22-F852-4E65-A2D3-071F0A2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2F641-7E8F-4D2B-9EF6-CCA2402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04FCE-D80A-433B-8C86-D95F9B7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30278-A699-43C0-B12B-A5700D0C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66DB-4A66-4AAA-B055-649C11F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96A0-17DB-4387-B14C-E44548F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051B-C01F-4206-B43C-B7B5368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7ED6-4E9F-4A87-B263-BADCC9C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419-7766-442F-A97D-E87F558E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5568-4821-42C1-969D-49237D8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84B5-8048-4106-BCEE-D2786678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80AB-DF56-482D-813C-47F7F9B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61A0-1657-4925-9F2D-4E067C6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94F8-00F7-4C29-AEF9-A33B1EB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2D83-3AC2-45C1-81BA-FECE6AF7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ACF6-32AA-43CC-AAD9-5A63E285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3270-D2B8-4602-8D87-14F8293A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846C-FB9E-4461-9FCB-85A748C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0736D-05E5-49B0-BF38-7D51A99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38D-CFBF-43BF-B2CC-AFFEE3D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804A-FEAB-4319-8820-8D1F9851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8EC6-9AA9-49F9-BBF2-969B3691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9E4E-2AE3-4C94-9BA3-036F671F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0F48-798E-4457-8774-DDDF436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377D-AD06-4823-BD8E-181D9406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E1CA-5483-4607-B01C-4070D08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A5D8-2E88-4801-876F-5D825EA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E993-F149-4BAD-8FCF-64EEA36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C96D-A903-4C36-871A-15995347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3F5E-279B-480F-9BB9-DF534BF6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906-97A4-4314-88B7-9A89552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7B22-FADC-4D17-9F2F-02A1DA6A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A728-9ED8-4D02-AE19-CCC8A2A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FABA8-0CE4-47AF-9780-A785F7AD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DD35-E5EB-4ACD-9829-05D111B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8472-D00D-4701-8171-850EF55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F6DF-E0DD-4D5B-B6DD-5770C98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0C38-A395-49C6-88DA-8C4A4E1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D00C-46B4-4720-916F-4642FE2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A26A-1E1E-4860-B9BF-2E42CB4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2A6D-8F7C-4EE0-9C0C-27198F28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CAC-F40C-4527-BC4E-3DFA8D4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C48D5-F5E3-4CA2-9B61-20636478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2FAD-3D7C-4688-9A28-2CCE57E6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F619-8F27-4309-BB11-93C1A0F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9A63-3D51-4538-8F84-49F5C1B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A9F9-8E76-4AF3-8140-742C59A9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8C2A-98A2-4D79-BE0F-E5F2412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DAFE-EA73-42D1-A4FF-52D7473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A90A-C37A-41E2-B5FA-79F2D51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F22C-EF75-49DE-8FCD-08107A80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F0F0-92F6-4D8E-8E3B-7AFCA29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975-FD8F-4BDE-9325-85B140B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1938-C63B-4DD1-BC0D-67FDF84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CB33-1204-462D-9685-F3DC564E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77A0-8B57-4768-84F2-BAC38184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DBA5-0531-44F3-B7D0-5D383EFF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06B8-8D78-44B8-8B48-33C8468E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E3B0-7E34-4696-9339-D8BEABD0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3847-D23D-471E-8220-8A2D38C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1C5F7-0E6D-4466-AB04-F3676A98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DF17-3B65-4653-84B3-8041E0EA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6083-0F0F-4537-884F-21AE092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D00-27AB-45CD-8412-8041607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CB92-E702-44CE-A3DF-EEE4F77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003E-36A0-46DD-860A-1DB8722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BA39-3A6D-423A-8745-AFA0E83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DA4F-950B-4B2D-8518-690EEB18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2D5F-07AF-4C7F-873D-9B0AAD09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21F29-F099-4D24-BF72-5B3C3A30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1E40B-73ED-4812-9076-7CB1488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1EF2A-58F9-4B09-ACF4-7634B0E0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0003-4556-481B-B326-D3556B4A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AB07-4881-4988-B929-0392C40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309-7BB3-4DC7-B92C-0A3EF30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7494-AC83-49CB-AFF4-F712089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68D2-18B5-46D5-8055-86CDB3B8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ED26-3BF4-4683-A43D-3C8B576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CDB32-BAE7-43A9-81F9-E94C0CD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9F25-DFB4-4812-9780-BFB8F0D3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57F73-778C-453D-A982-1A8DF052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FF94-4519-4F80-8987-60C386F6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6E10-CF34-4302-A668-9B2F58F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1111-051D-4C61-A5B1-A9862AD7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3576-FB18-49C6-B7E5-50CC52C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A314-9DD2-4AD0-9A9C-35D33CFA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759-B55D-489C-A671-75E1CD559F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E710-06A9-4CF0-B5A7-B0259C26C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A52-B8A9-45C5-ACEE-C43BC543C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136-F306-4136-B1A9-AE663A4F6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46D-AA93-407F-84F9-BB0175CA3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BD0-C163-4C4C-8D43-D8D982BFB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281-61D4-41AC-B7A9-B2F6AE1D4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3BF-1999-48AF-9E5E-D28BD56B3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B31-E366-4D4C-9D1A-C3BA207B1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7F0-D903-4AD1-85D8-D7CACAF9F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114-C6D0-4492-A117-B8C40FB04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8C4-D65F-45E0-86ED-BC6331E93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F79A-7FCA-494B-92AD-8AE08C089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C607-25BB-4A2C-91CF-0EA482393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695-F4A7-425C-940E-79E90D440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BA9-D7D2-4924-A39E-FABB21EF6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E1E-1D6D-4A88-8B10-E5F4A9D25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0C05-02B3-4A11-A32C-F16F00FDD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44F-7374-42A7-B494-401C8B126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183-AE05-43F2-A30B-5388B9186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D32-6583-42ED-B5CC-2BE25E0BB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5ED-CC9C-4B36-894D-95BF9DFE2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0D1-1CB7-4FD0-885E-FC19ED84C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250-4B25-46AB-9789-7C871F5F5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2E2-9E5E-409B-914B-9F1BAFD95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4C79-129F-4655-A8E3-366927F22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156-8DD4-4D8B-AD66-B5D7B954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AA1-18EF-466B-B9DB-8C4AED37C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36E6-60B7-46C4-A6F1-5F66430F5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F750-0D91-455F-8196-A3230793A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A4E7-E22D-4B64-8CE5-CDE26A383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962C-65C5-4D09-A40E-5563A4164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4AA-4BBA-4663-9EBA-80F2274E1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DFE-733B-45F9-8D75-7535ADD84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C6C1-5701-4CBA-B61B-5E7D5802C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A14-9F7A-43E2-93F9-DF4CDD535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C0DE-BD97-4DFC-A42A-2A801D260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5D9-AB31-423F-9A59-51CF6E7D9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9C8-FF6E-45A1-8084-135D8CC7B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614600" y="3124080"/>
            <a:ext cx="5886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693800" y="3243240"/>
            <a:ext cx="57358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1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724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3" descr=""/>
          <p:cNvPicPr/>
          <p:nvPr/>
        </p:nvPicPr>
        <p:blipFill>
          <a:blip r:embed="rId2"/>
          <a:stretch/>
        </p:blipFill>
        <p:spPr>
          <a:xfrm>
            <a:off x="2374920" y="2482920"/>
            <a:ext cx="5334120" cy="1762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3"/>
          <a:stretch/>
        </p:blipFill>
        <p:spPr>
          <a:xfrm>
            <a:off x="1643040" y="5643720"/>
            <a:ext cx="571680" cy="323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4"/>
          <a:stretch/>
        </p:blipFill>
        <p:spPr>
          <a:xfrm>
            <a:off x="3571920" y="5643720"/>
            <a:ext cx="642960" cy="32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5"/>
          <a:stretch/>
        </p:blipFill>
        <p:spPr>
          <a:xfrm>
            <a:off x="5857920" y="5680080"/>
            <a:ext cx="57132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6"/>
          <a:stretch/>
        </p:blipFill>
        <p:spPr>
          <a:xfrm>
            <a:off x="7929720" y="5665680"/>
            <a:ext cx="5713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1" descr=""/>
          <p:cNvPicPr/>
          <p:nvPr/>
        </p:nvPicPr>
        <p:blipFill>
          <a:blip r:embed="rId1"/>
          <a:stretch/>
        </p:blipFill>
        <p:spPr>
          <a:xfrm>
            <a:off x="361800" y="1428840"/>
            <a:ext cx="8420400" cy="4429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2"/>
          <a:stretch/>
        </p:blipFill>
        <p:spPr>
          <a:xfrm>
            <a:off x="7572240" y="2900520"/>
            <a:ext cx="1143000" cy="32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3"/>
          <a:stretch/>
        </p:blipFill>
        <p:spPr>
          <a:xfrm>
            <a:off x="3214800" y="4500720"/>
            <a:ext cx="642960" cy="323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4"/>
          <a:stretch/>
        </p:blipFill>
        <p:spPr>
          <a:xfrm>
            <a:off x="6143760" y="4500720"/>
            <a:ext cx="571320" cy="32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5"/>
          <a:stretch/>
        </p:blipFill>
        <p:spPr>
          <a:xfrm>
            <a:off x="2571840" y="4929120"/>
            <a:ext cx="571320" cy="324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6"/>
          <a:stretch/>
        </p:blipFill>
        <p:spPr>
          <a:xfrm>
            <a:off x="5857920" y="4937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7"/>
          <a:stretch/>
        </p:blipFill>
        <p:spPr>
          <a:xfrm>
            <a:off x="3375000" y="540864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1" descr=""/>
          <p:cNvPicPr/>
          <p:nvPr/>
        </p:nvPicPr>
        <p:blipFill>
          <a:blip r:embed="rId1"/>
          <a:stretch/>
        </p:blipFill>
        <p:spPr>
          <a:xfrm>
            <a:off x="195120" y="2214720"/>
            <a:ext cx="8753760" cy="2428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2"/>
          <a:stretch/>
        </p:blipFill>
        <p:spPr>
          <a:xfrm>
            <a:off x="5286240" y="37861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tretch/>
        </p:blipFill>
        <p:spPr>
          <a:xfrm>
            <a:off x="6072120" y="3857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6858000" y="37861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7572240" y="3857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8286840" y="385776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10:09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